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A721-4B89-411C-A227-2644A38B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4777-CDD2-481D-A4CD-4CF3C245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15C2-64F0-4025-800B-A6A337DA0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8DFF-561F-4C9E-A61E-5E9B77B2E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F03C-00D4-4D73-B62E-F87A6F9E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E16F-0804-4D07-A085-5131060E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E514-A55B-4476-BC20-1341C6BF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C27B-ABF0-456C-8DE7-42804AF5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BD6E-58EE-4BDA-9ABE-C4216DAA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822B-FC90-4394-8C45-14CD06CC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E736-53D3-473A-9E1A-DD4A81D8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AC3E-7649-49BB-8AAD-A3CDC811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786F-0CB6-4CDA-91DE-762397C67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RT 2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WNSTREAM TEMPERATURE BENEF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1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ducted by Tom Payne and Associ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neca Reac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FFR above Carib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7156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076960" cy="4762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886200" y="1752480"/>
            <a:ext cx="4648320" cy="4648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ily Average Temperature – Normal Case – NFFR above Caribo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08576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69721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neca Reac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FFR above Carib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7156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076960" cy="47628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6248520" y="1752480"/>
            <a:ext cx="2361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248520" y="1752480"/>
            <a:ext cx="2438280" cy="4572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23880" y="1752480"/>
            <a:ext cx="2362320" cy="4572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ily Average Temperature – Reasonable Extreme – NFFR above Caribo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8576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8584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185840" y="1123920"/>
            <a:ext cx="677232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neca Reac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FFR above Carib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7156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076960" cy="47628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6248520" y="1752480"/>
            <a:ext cx="2361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25680" y="1754280"/>
            <a:ext cx="4725720" cy="4570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ily Average Temperature – Rare Events – NFFR above Caribo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8576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8584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8576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085760" y="1052640"/>
            <a:ext cx="69724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almanor%20map-230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6400800" cy="58561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 flipH="1" flipV="1">
            <a:off x="3962160" y="3733920"/>
            <a:ext cx="759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2895480" y="3429000"/>
            <a:ext cx="7632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590920" y="3886200"/>
            <a:ext cx="7596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33920" y="4114800"/>
            <a:ext cx="990360" cy="641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FFR above Carib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90920" y="2971800"/>
            <a:ext cx="990360" cy="398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FFR above East 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33720" y="4267080"/>
            <a:ext cx="914400" cy="398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FFR above Belden P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lden Reac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FFR above East Bran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7156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89072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143000" y="1455840"/>
            <a:ext cx="7162920" cy="44877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143000" y="2438280"/>
            <a:ext cx="71629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43000" y="4952880"/>
            <a:ext cx="71629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ily Average Temperature – Normal Case – NFFR above East Bran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08576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1436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314360" y="1209600"/>
            <a:ext cx="651528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ily Average Temperature – Reasonable Extreme – NFFR above E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8576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1436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00240" y="11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200240" y="1128600"/>
            <a:ext cx="674352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lmanor%20map-230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6400800" cy="5856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267080" y="2133720"/>
            <a:ext cx="6858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162400" y="32860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3733920"/>
            <a:ext cx="1266840" cy="580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anyon Dam 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19520" y="1981080"/>
            <a:ext cx="14475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rattville Int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ily Average Temperature – Rare Events – NFFR above E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8576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1436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00240" y="11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5748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257480" y="1166760"/>
            <a:ext cx="66294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lden Reac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FFR above Belden P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7156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9072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8128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467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ily Average Temperature – Normal Case – NFFR above Belden P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08576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31436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00240" y="11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200240" y="1128600"/>
            <a:ext cx="674352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ily Average Temperature – Reasonable Extreme – NFFR above Belden P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8576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1436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00240" y="11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00240" y="11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200240" y="1128600"/>
            <a:ext cx="674352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ily Average Temperature – Rare Events – NFFR above Belden P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8576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1436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00240" y="11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00240" y="11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5748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257480" y="1166760"/>
            <a:ext cx="66294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1523880"/>
            <a:ext cx="9144000" cy="18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eca Reach Instream Flow Release at Canyon Dam (CF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Year 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u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ical D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8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6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7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8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8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3733920"/>
            <a:ext cx="914400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den Reach Instream Flow Release at Belden Dam (CF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Year 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u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ical D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9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7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1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4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1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4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140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Modeling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Conditions (SNTEM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tream Flow Schedu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19920" y="4800600"/>
            <a:ext cx="457200" cy="304920"/>
          </a:xfrm>
          <a:custGeom>
            <a:avLst/>
            <a:gdLst>
              <a:gd name="textAreaLeft" fmla="*/ 0 w 457200"/>
              <a:gd name="textAreaRight" fmla="*/ 45756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ream Network Temperature Model (SNTEMP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domain developed by USF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omplete full suite heat flux mod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 geometry, riparian and topographic sh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ibutaries and accretion flo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eorological correction for elevation chang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mporal and spatial water temper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FFR - daily average temperatures with d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66840" y="5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410680" cy="5753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erature Profiles with D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4800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yon 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990720" y="50292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8001000" cy="44323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oral Temperature Distrib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90720" y="2514600"/>
            <a:ext cx="7467480" cy="39625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1371600"/>
            <a:ext cx="746748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" y="43941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40" y="43941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40" y="43941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995400" y="1574640"/>
            <a:ext cx="7691040" cy="1168200"/>
            <a:chOff x="995400" y="1574640"/>
            <a:chExt cx="7691040" cy="1168200"/>
          </a:xfrm>
        </p:grpSpPr>
        <p:grpSp>
          <p:nvGrpSpPr>
            <p:cNvPr id="63" name=""/>
            <p:cNvGrpSpPr/>
            <p:nvPr/>
          </p:nvGrpSpPr>
          <p:grpSpPr>
            <a:xfrm>
              <a:off x="995400" y="1574640"/>
              <a:ext cx="7691040" cy="911160"/>
              <a:chOff x="995400" y="1574640"/>
              <a:chExt cx="7691040" cy="911160"/>
            </a:xfrm>
          </p:grpSpPr>
          <p:grpSp>
            <p:nvGrpSpPr>
              <p:cNvPr id="64" name=""/>
              <p:cNvGrpSpPr/>
              <p:nvPr/>
            </p:nvGrpSpPr>
            <p:grpSpPr>
              <a:xfrm>
                <a:off x="995400" y="1574640"/>
                <a:ext cx="1679040" cy="255600"/>
                <a:chOff x="995400" y="1574640"/>
                <a:chExt cx="1679040" cy="25560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1073520" y="1574640"/>
                  <a:ext cx="152280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995400" y="1574640"/>
                  <a:ext cx="167904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2674800" y="1622160"/>
                <a:ext cx="2927160" cy="255600"/>
                <a:chOff x="2674800" y="1622160"/>
                <a:chExt cx="2927160" cy="2556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2752920" y="1622160"/>
                  <a:ext cx="277056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0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2674800" y="1622160"/>
                  <a:ext cx="2927160" cy="25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5602320" y="1620720"/>
                <a:ext cx="3084120" cy="257040"/>
                <a:chOff x="5602320" y="1620720"/>
                <a:chExt cx="3084120" cy="257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5686560" y="1620720"/>
                  <a:ext cx="291492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00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602320" y="1620720"/>
                  <a:ext cx="3084120" cy="25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995400" y="1830240"/>
                <a:ext cx="1679040" cy="326880"/>
                <a:chOff x="995400" y="1830240"/>
                <a:chExt cx="1679040" cy="3268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1073520" y="1830240"/>
                  <a:ext cx="1522800" cy="32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995400" y="1830240"/>
                  <a:ext cx="1679040" cy="32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2674800" y="1954080"/>
                <a:ext cx="1185480" cy="326880"/>
                <a:chOff x="2674800" y="1954080"/>
                <a:chExt cx="1185480" cy="3268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2752920" y="1954080"/>
                  <a:ext cx="1029240" cy="32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orrel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674800" y="1954080"/>
                  <a:ext cx="1185480" cy="32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3860640" y="1954080"/>
                <a:ext cx="749160" cy="326880"/>
                <a:chOff x="3860640" y="1954080"/>
                <a:chExt cx="749160" cy="32688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3938760" y="1954080"/>
                  <a:ext cx="592920" cy="32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Mea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860640" y="1954080"/>
                  <a:ext cx="749160" cy="32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4610160" y="1954080"/>
                <a:ext cx="991800" cy="326880"/>
                <a:chOff x="4610160" y="1954080"/>
                <a:chExt cx="991800" cy="32688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4688280" y="1954080"/>
                  <a:ext cx="835200" cy="32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obabl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4610160" y="1954080"/>
                  <a:ext cx="991800" cy="32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5602320" y="1954080"/>
                <a:ext cx="1186920" cy="326880"/>
                <a:chOff x="5602320" y="1954080"/>
                <a:chExt cx="1186920" cy="32688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5680080" y="1954080"/>
                  <a:ext cx="1030680" cy="32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orrel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602320" y="1954080"/>
                  <a:ext cx="1186920" cy="32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6789600" y="1954080"/>
                <a:ext cx="749160" cy="326880"/>
                <a:chOff x="6789600" y="1954080"/>
                <a:chExt cx="749160" cy="32688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6867720" y="1954080"/>
                  <a:ext cx="592560" cy="32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Mea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789600" y="1954080"/>
                  <a:ext cx="749160" cy="32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7539120" y="1954080"/>
                <a:ext cx="995040" cy="326880"/>
                <a:chOff x="7539120" y="1954080"/>
                <a:chExt cx="995040" cy="32688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7623720" y="1954080"/>
                  <a:ext cx="825120" cy="32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obabl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7539120" y="1954080"/>
                  <a:ext cx="995040" cy="32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995400" y="2157120"/>
                <a:ext cx="1679040" cy="328680"/>
                <a:chOff x="995400" y="2157120"/>
                <a:chExt cx="1679040" cy="3286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1073520" y="2157120"/>
                  <a:ext cx="1522800" cy="32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t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995400" y="2157120"/>
                  <a:ext cx="1679040" cy="32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2674800" y="2157120"/>
                <a:ext cx="1185480" cy="328680"/>
                <a:chOff x="2674800" y="2157120"/>
                <a:chExt cx="1185480" cy="32868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2752920" y="2157120"/>
                  <a:ext cx="1029240" cy="32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oeffici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674800" y="2157120"/>
                  <a:ext cx="1185480" cy="32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3860640" y="2157120"/>
                <a:ext cx="749160" cy="328680"/>
                <a:chOff x="3860640" y="2157120"/>
                <a:chExt cx="749160" cy="3286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3938760" y="2157120"/>
                  <a:ext cx="592920" cy="32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Err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3860640" y="2157120"/>
                  <a:ext cx="749160" cy="32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4610160" y="2157120"/>
                <a:ext cx="991800" cy="328680"/>
                <a:chOff x="4610160" y="2157120"/>
                <a:chExt cx="991800" cy="3286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4688280" y="2157120"/>
                  <a:ext cx="835200" cy="32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Err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610160" y="2157120"/>
                  <a:ext cx="991800" cy="32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5602320" y="2157120"/>
                <a:ext cx="1186920" cy="328680"/>
                <a:chOff x="5602320" y="2157120"/>
                <a:chExt cx="1186920" cy="3286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5680080" y="2157120"/>
                  <a:ext cx="1030680" cy="32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oeffici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5602320" y="2157120"/>
                  <a:ext cx="1186920" cy="32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6789600" y="2157120"/>
                <a:ext cx="749160" cy="328680"/>
                <a:chOff x="6789600" y="2157120"/>
                <a:chExt cx="749160" cy="3286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6867720" y="2157120"/>
                  <a:ext cx="592560" cy="32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Err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789600" y="2157120"/>
                  <a:ext cx="749160" cy="32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7539120" y="2157120"/>
                <a:ext cx="914040" cy="328680"/>
                <a:chOff x="7539120" y="2157120"/>
                <a:chExt cx="914040" cy="32868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7616880" y="2157120"/>
                  <a:ext cx="757800" cy="32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Err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539120" y="2157120"/>
                  <a:ext cx="914040" cy="32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" name=""/>
            <p:cNvGrpSpPr/>
            <p:nvPr/>
          </p:nvGrpSpPr>
          <p:grpSpPr>
            <a:xfrm>
              <a:off x="995400" y="2487240"/>
              <a:ext cx="1679040" cy="255600"/>
              <a:chOff x="995400" y="2487240"/>
              <a:chExt cx="1679040" cy="255600"/>
            </a:xfrm>
          </p:grpSpPr>
          <p:sp>
            <p:nvSpPr>
              <p:cNvPr id="116" name=""/>
              <p:cNvSpPr/>
              <p:nvPr/>
            </p:nvSpPr>
            <p:spPr>
              <a:xfrm>
                <a:off x="1073520" y="2487240"/>
                <a:ext cx="152280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995400" y="2487240"/>
                <a:ext cx="167904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2674800" y="2412720"/>
              <a:ext cx="1185480" cy="255600"/>
              <a:chOff x="2674800" y="2412720"/>
              <a:chExt cx="1185480" cy="255600"/>
            </a:xfrm>
          </p:grpSpPr>
          <p:sp>
            <p:nvSpPr>
              <p:cNvPr id="119" name=""/>
              <p:cNvSpPr/>
              <p:nvPr/>
            </p:nvSpPr>
            <p:spPr>
              <a:xfrm>
                <a:off x="2752920" y="2412720"/>
                <a:ext cx="102924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(R</a:t>
                </a:r>
                <a:r>
                  <a:rPr b="1" lang="en-US" sz="12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674800" y="2412720"/>
                <a:ext cx="118548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3860640" y="2412720"/>
              <a:ext cx="749160" cy="255600"/>
              <a:chOff x="3860640" y="2412720"/>
              <a:chExt cx="749160" cy="255600"/>
            </a:xfrm>
          </p:grpSpPr>
          <p:sp>
            <p:nvSpPr>
              <p:cNvPr id="122" name=""/>
              <p:cNvSpPr/>
              <p:nvPr/>
            </p:nvSpPr>
            <p:spPr>
              <a:xfrm>
                <a:off x="3938760" y="2412720"/>
                <a:ext cx="59292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12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0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860640" y="2412720"/>
                <a:ext cx="74916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610160" y="2412720"/>
              <a:ext cx="991800" cy="255600"/>
              <a:chOff x="4610160" y="2412720"/>
              <a:chExt cx="991800" cy="255600"/>
            </a:xfrm>
          </p:grpSpPr>
          <p:sp>
            <p:nvSpPr>
              <p:cNvPr id="125" name=""/>
              <p:cNvSpPr/>
              <p:nvPr/>
            </p:nvSpPr>
            <p:spPr>
              <a:xfrm>
                <a:off x="4688280" y="2412720"/>
                <a:ext cx="83520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(+/-</a:t>
                </a:r>
                <a:r>
                  <a:rPr b="1" lang="en-US" sz="12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0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610160" y="2412720"/>
                <a:ext cx="99180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5602320" y="2412720"/>
              <a:ext cx="1186920" cy="255600"/>
              <a:chOff x="5602320" y="2412720"/>
              <a:chExt cx="1186920" cy="255600"/>
            </a:xfrm>
          </p:grpSpPr>
          <p:sp>
            <p:nvSpPr>
              <p:cNvPr id="128" name=""/>
              <p:cNvSpPr/>
              <p:nvPr/>
            </p:nvSpPr>
            <p:spPr>
              <a:xfrm>
                <a:off x="5680080" y="2412720"/>
                <a:ext cx="103068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(R</a:t>
                </a:r>
                <a:r>
                  <a:rPr b="1" lang="en-US" sz="12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602320" y="2412720"/>
                <a:ext cx="118692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6789600" y="2412720"/>
              <a:ext cx="749160" cy="255600"/>
              <a:chOff x="6789600" y="2412720"/>
              <a:chExt cx="749160" cy="255600"/>
            </a:xfrm>
          </p:grpSpPr>
          <p:sp>
            <p:nvSpPr>
              <p:cNvPr id="131" name=""/>
              <p:cNvSpPr/>
              <p:nvPr/>
            </p:nvSpPr>
            <p:spPr>
              <a:xfrm>
                <a:off x="6867720" y="2412720"/>
                <a:ext cx="59256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1" lang="en-US" sz="12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0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789600" y="2412720"/>
                <a:ext cx="74916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7539120" y="2412720"/>
              <a:ext cx="914040" cy="255600"/>
              <a:chOff x="7539120" y="2412720"/>
              <a:chExt cx="914040" cy="255600"/>
            </a:xfrm>
          </p:grpSpPr>
          <p:sp>
            <p:nvSpPr>
              <p:cNvPr id="134" name=""/>
              <p:cNvSpPr/>
              <p:nvPr/>
            </p:nvSpPr>
            <p:spPr>
              <a:xfrm>
                <a:off x="7616880" y="2412720"/>
                <a:ext cx="75780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(+/-</a:t>
                </a:r>
                <a:r>
                  <a:rPr b="1" lang="en-US" sz="1200" spc="-1" strike="noStrike" baseline="30000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0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539120" y="2412720"/>
                <a:ext cx="91404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" name=""/>
          <p:cNvGrpSpPr/>
          <p:nvPr/>
        </p:nvGrpSpPr>
        <p:grpSpPr>
          <a:xfrm>
            <a:off x="995400" y="2819520"/>
            <a:ext cx="7457760" cy="255600"/>
            <a:chOff x="995400" y="2819520"/>
            <a:chExt cx="7457760" cy="255600"/>
          </a:xfrm>
        </p:grpSpPr>
        <p:sp>
          <p:nvSpPr>
            <p:cNvPr id="137" name=""/>
            <p:cNvSpPr/>
            <p:nvPr/>
          </p:nvSpPr>
          <p:spPr>
            <a:xfrm>
              <a:off x="1073520" y="2819520"/>
              <a:ext cx="730116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neca Reach Stream S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95400" y="2819520"/>
              <a:ext cx="745776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073160" y="3049560"/>
            <a:ext cx="18986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Seneca Bridge (NF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5400" y="3048120"/>
            <a:ext cx="19764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52560" y="3049560"/>
            <a:ext cx="10303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94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74800" y="3049560"/>
            <a:ext cx="11858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38760" y="3049560"/>
            <a:ext cx="593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0.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60640" y="3049560"/>
            <a:ext cx="7495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87920" y="3049560"/>
            <a:ext cx="836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10160" y="3049560"/>
            <a:ext cx="9921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80080" y="3049560"/>
            <a:ext cx="10317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95.7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02320" y="3049560"/>
            <a:ext cx="11872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67360" y="3049560"/>
            <a:ext cx="5940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0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89600" y="3049560"/>
            <a:ext cx="7495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16880" y="3049560"/>
            <a:ext cx="7588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39120" y="3049560"/>
            <a:ext cx="9144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73160" y="3451320"/>
            <a:ext cx="15238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stream Caribou Powerhouse (NF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5400" y="3451320"/>
            <a:ext cx="16794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52560" y="3451320"/>
            <a:ext cx="10303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94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74800" y="3451320"/>
            <a:ext cx="11858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38760" y="3451320"/>
            <a:ext cx="5936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60640" y="3451320"/>
            <a:ext cx="7495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87920" y="3451320"/>
            <a:ext cx="8366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10160" y="3451320"/>
            <a:ext cx="992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80080" y="3451320"/>
            <a:ext cx="10317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96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02320" y="3451320"/>
            <a:ext cx="1187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67360" y="3451320"/>
            <a:ext cx="594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89600" y="3451320"/>
            <a:ext cx="7495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16880" y="3451320"/>
            <a:ext cx="7588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39120" y="3451320"/>
            <a:ext cx="9144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995400" y="3886200"/>
            <a:ext cx="1679040" cy="255600"/>
            <a:chOff x="995400" y="3886200"/>
            <a:chExt cx="1679040" cy="255600"/>
          </a:xfrm>
        </p:grpSpPr>
        <p:sp>
          <p:nvSpPr>
            <p:cNvPr id="168" name=""/>
            <p:cNvSpPr/>
            <p:nvPr/>
          </p:nvSpPr>
          <p:spPr>
            <a:xfrm>
              <a:off x="1073520" y="3886200"/>
              <a:ext cx="15228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95400" y="3886200"/>
              <a:ext cx="16790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674800" y="3886200"/>
            <a:ext cx="2927160" cy="255600"/>
            <a:chOff x="2674800" y="3886200"/>
            <a:chExt cx="2927160" cy="255600"/>
          </a:xfrm>
        </p:grpSpPr>
        <p:sp>
          <p:nvSpPr>
            <p:cNvPr id="171" name=""/>
            <p:cNvSpPr/>
            <p:nvPr/>
          </p:nvSpPr>
          <p:spPr>
            <a:xfrm>
              <a:off x="2752920" y="3886200"/>
              <a:ext cx="277056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674800" y="3886200"/>
              <a:ext cx="292716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602320" y="3886200"/>
            <a:ext cx="2850840" cy="255600"/>
            <a:chOff x="5602320" y="3886200"/>
            <a:chExt cx="2850840" cy="255600"/>
          </a:xfrm>
        </p:grpSpPr>
        <p:sp>
          <p:nvSpPr>
            <p:cNvPr id="174" name=""/>
            <p:cNvSpPr/>
            <p:nvPr/>
          </p:nvSpPr>
          <p:spPr>
            <a:xfrm>
              <a:off x="5680080" y="3886200"/>
              <a:ext cx="26946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02320" y="3886200"/>
              <a:ext cx="28508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995400" y="4141800"/>
            <a:ext cx="7457760" cy="254160"/>
            <a:chOff x="995400" y="4141800"/>
            <a:chExt cx="7457760" cy="254160"/>
          </a:xfrm>
        </p:grpSpPr>
        <p:sp>
          <p:nvSpPr>
            <p:cNvPr id="177" name=""/>
            <p:cNvSpPr/>
            <p:nvPr/>
          </p:nvSpPr>
          <p:spPr>
            <a:xfrm>
              <a:off x="1073520" y="4141800"/>
              <a:ext cx="730116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ower Butt Creek Reach Stream S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95400" y="4141800"/>
              <a:ext cx="745776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995400" y="4419720"/>
            <a:ext cx="1679040" cy="255600"/>
            <a:chOff x="995400" y="4419720"/>
            <a:chExt cx="1679040" cy="255600"/>
          </a:xfrm>
        </p:grpSpPr>
        <p:sp>
          <p:nvSpPr>
            <p:cNvPr id="180" name=""/>
            <p:cNvSpPr/>
            <p:nvPr/>
          </p:nvSpPr>
          <p:spPr>
            <a:xfrm>
              <a:off x="1073520" y="4419720"/>
              <a:ext cx="15228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t mouth (BC3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5400" y="4419720"/>
              <a:ext cx="16790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674800" y="4419720"/>
            <a:ext cx="1185480" cy="255600"/>
            <a:chOff x="2674800" y="4419720"/>
            <a:chExt cx="1185480" cy="255600"/>
          </a:xfrm>
        </p:grpSpPr>
        <p:sp>
          <p:nvSpPr>
            <p:cNvPr id="183" name=""/>
            <p:cNvSpPr/>
            <p:nvPr/>
          </p:nvSpPr>
          <p:spPr>
            <a:xfrm>
              <a:off x="2752920" y="4419720"/>
              <a:ext cx="10292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929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74800" y="4419720"/>
              <a:ext cx="11854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860640" y="4419720"/>
            <a:ext cx="749160" cy="255600"/>
            <a:chOff x="3860640" y="4419720"/>
            <a:chExt cx="749160" cy="255600"/>
          </a:xfrm>
        </p:grpSpPr>
        <p:sp>
          <p:nvSpPr>
            <p:cNvPr id="186" name=""/>
            <p:cNvSpPr/>
            <p:nvPr/>
          </p:nvSpPr>
          <p:spPr>
            <a:xfrm>
              <a:off x="3938760" y="4419720"/>
              <a:ext cx="59292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0.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60640" y="4419720"/>
              <a:ext cx="74916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610160" y="4419720"/>
            <a:ext cx="991800" cy="255600"/>
            <a:chOff x="4610160" y="4419720"/>
            <a:chExt cx="991800" cy="255600"/>
          </a:xfrm>
        </p:grpSpPr>
        <p:sp>
          <p:nvSpPr>
            <p:cNvPr id="189" name=""/>
            <p:cNvSpPr/>
            <p:nvPr/>
          </p:nvSpPr>
          <p:spPr>
            <a:xfrm>
              <a:off x="4688280" y="4419720"/>
              <a:ext cx="8352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10160" y="4419720"/>
              <a:ext cx="9918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602320" y="4419720"/>
            <a:ext cx="1186920" cy="255600"/>
            <a:chOff x="5602320" y="4419720"/>
            <a:chExt cx="1186920" cy="255600"/>
          </a:xfrm>
        </p:grpSpPr>
        <p:sp>
          <p:nvSpPr>
            <p:cNvPr id="192" name=""/>
            <p:cNvSpPr/>
            <p:nvPr/>
          </p:nvSpPr>
          <p:spPr>
            <a:xfrm>
              <a:off x="5680080" y="4419720"/>
              <a:ext cx="10306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943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602320" y="4419720"/>
              <a:ext cx="118692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789600" y="4419720"/>
            <a:ext cx="749160" cy="255600"/>
            <a:chOff x="6789600" y="4419720"/>
            <a:chExt cx="749160" cy="255600"/>
          </a:xfrm>
        </p:grpSpPr>
        <p:sp>
          <p:nvSpPr>
            <p:cNvPr id="195" name=""/>
            <p:cNvSpPr/>
            <p:nvPr/>
          </p:nvSpPr>
          <p:spPr>
            <a:xfrm>
              <a:off x="6867720" y="4419720"/>
              <a:ext cx="59256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89600" y="4419720"/>
              <a:ext cx="74916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7539120" y="4419720"/>
            <a:ext cx="914040" cy="255600"/>
            <a:chOff x="7539120" y="4419720"/>
            <a:chExt cx="914040" cy="255600"/>
          </a:xfrm>
        </p:grpSpPr>
        <p:sp>
          <p:nvSpPr>
            <p:cNvPr id="198" name=""/>
            <p:cNvSpPr/>
            <p:nvPr/>
          </p:nvSpPr>
          <p:spPr>
            <a:xfrm>
              <a:off x="7616880" y="4419720"/>
              <a:ext cx="7578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39120" y="4419720"/>
              <a:ext cx="9140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1068480" y="4876920"/>
            <a:ext cx="7302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lden Reach Stream 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73160" y="5105520"/>
            <a:ext cx="1523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stream of Queen Lily (NF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5400" y="5105520"/>
            <a:ext cx="16794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52560" y="5105520"/>
            <a:ext cx="10303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99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74800" y="5140440"/>
            <a:ext cx="11858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38760" y="5105520"/>
            <a:ext cx="593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60640" y="5140440"/>
            <a:ext cx="7495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87920" y="5105520"/>
            <a:ext cx="836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10160" y="5140440"/>
            <a:ext cx="9921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680080" y="5105520"/>
            <a:ext cx="10317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99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02320" y="5140440"/>
            <a:ext cx="1187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67360" y="5105520"/>
            <a:ext cx="594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9600" y="5140440"/>
            <a:ext cx="7495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16880" y="5105520"/>
            <a:ext cx="758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39120" y="5140440"/>
            <a:ext cx="9144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995400" y="5545080"/>
            <a:ext cx="1679040" cy="474840"/>
            <a:chOff x="995400" y="5545080"/>
            <a:chExt cx="1679040" cy="474840"/>
          </a:xfrm>
        </p:grpSpPr>
        <p:sp>
          <p:nvSpPr>
            <p:cNvPr id="216" name=""/>
            <p:cNvSpPr/>
            <p:nvPr/>
          </p:nvSpPr>
          <p:spPr>
            <a:xfrm>
              <a:off x="1073520" y="5545080"/>
              <a:ext cx="15228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ansner Bar Campground (NF7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95400" y="5545080"/>
              <a:ext cx="16790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2674800" y="5545080"/>
            <a:ext cx="1185480" cy="474840"/>
            <a:chOff x="2674800" y="5545080"/>
            <a:chExt cx="1185480" cy="474840"/>
          </a:xfrm>
        </p:grpSpPr>
        <p:sp>
          <p:nvSpPr>
            <p:cNvPr id="219" name=""/>
            <p:cNvSpPr/>
            <p:nvPr/>
          </p:nvSpPr>
          <p:spPr>
            <a:xfrm>
              <a:off x="2752920" y="5545080"/>
              <a:ext cx="10292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98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74800" y="5545080"/>
              <a:ext cx="11854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860640" y="5545080"/>
            <a:ext cx="749160" cy="474840"/>
            <a:chOff x="3860640" y="5545080"/>
            <a:chExt cx="749160" cy="474840"/>
          </a:xfrm>
        </p:grpSpPr>
        <p:sp>
          <p:nvSpPr>
            <p:cNvPr id="222" name=""/>
            <p:cNvSpPr/>
            <p:nvPr/>
          </p:nvSpPr>
          <p:spPr>
            <a:xfrm>
              <a:off x="3938760" y="5545080"/>
              <a:ext cx="592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0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60640" y="5545080"/>
              <a:ext cx="749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610160" y="5545080"/>
            <a:ext cx="991800" cy="474840"/>
            <a:chOff x="4610160" y="5545080"/>
            <a:chExt cx="991800" cy="474840"/>
          </a:xfrm>
        </p:grpSpPr>
        <p:sp>
          <p:nvSpPr>
            <p:cNvPr id="225" name=""/>
            <p:cNvSpPr/>
            <p:nvPr/>
          </p:nvSpPr>
          <p:spPr>
            <a:xfrm>
              <a:off x="4688280" y="5545080"/>
              <a:ext cx="835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1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10160" y="5545080"/>
              <a:ext cx="9918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602320" y="5545080"/>
            <a:ext cx="1186920" cy="474840"/>
            <a:chOff x="5602320" y="5545080"/>
            <a:chExt cx="1186920" cy="474840"/>
          </a:xfrm>
        </p:grpSpPr>
        <p:sp>
          <p:nvSpPr>
            <p:cNvPr id="228" name=""/>
            <p:cNvSpPr/>
            <p:nvPr/>
          </p:nvSpPr>
          <p:spPr>
            <a:xfrm>
              <a:off x="5680080" y="5545080"/>
              <a:ext cx="1030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984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602320" y="5545080"/>
              <a:ext cx="1186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789600" y="5545080"/>
            <a:ext cx="749160" cy="474840"/>
            <a:chOff x="6789600" y="5545080"/>
            <a:chExt cx="749160" cy="474840"/>
          </a:xfrm>
        </p:grpSpPr>
        <p:sp>
          <p:nvSpPr>
            <p:cNvPr id="231" name=""/>
            <p:cNvSpPr/>
            <p:nvPr/>
          </p:nvSpPr>
          <p:spPr>
            <a:xfrm>
              <a:off x="6867720" y="5545080"/>
              <a:ext cx="592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89600" y="5545080"/>
              <a:ext cx="749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7539120" y="5545080"/>
            <a:ext cx="914040" cy="474840"/>
            <a:chOff x="7539120" y="5545080"/>
            <a:chExt cx="914040" cy="474840"/>
          </a:xfrm>
        </p:grpSpPr>
        <p:sp>
          <p:nvSpPr>
            <p:cNvPr id="234" name=""/>
            <p:cNvSpPr/>
            <p:nvPr/>
          </p:nvSpPr>
          <p:spPr>
            <a:xfrm>
              <a:off x="7616880" y="5545080"/>
              <a:ext cx="7578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39120" y="5545080"/>
              <a:ext cx="9140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073160" y="6078600"/>
            <a:ext cx="1523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stream Belden Powerhouse (NF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95400" y="6078600"/>
            <a:ext cx="16794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52560" y="6078600"/>
            <a:ext cx="1030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99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74800" y="6078600"/>
            <a:ext cx="11858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38760" y="6078600"/>
            <a:ext cx="5936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60640" y="6078600"/>
            <a:ext cx="7495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87920" y="6078600"/>
            <a:ext cx="8366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10160" y="6078600"/>
            <a:ext cx="9921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80080" y="6078600"/>
            <a:ext cx="1031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99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02320" y="6078600"/>
            <a:ext cx="11872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67360" y="6080040"/>
            <a:ext cx="59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0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89600" y="6080040"/>
            <a:ext cx="7495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16880" y="6078600"/>
            <a:ext cx="75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39120" y="6078600"/>
            <a:ext cx="9144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NTEMP Modeling Accura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imes New Roman"/>
              </a:rPr>
              <a:t>Modeling Conditions (SNTEMP)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eady St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ing Conditions (SC) from MITEMP predi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acket temperature range by 3 probabilities of occurrence (50%, 25% and 10% exceedance level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%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rmal Case (50% SC/Normal met/Normal WY accretion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%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asonable Extreme (25% SC/Warm met/Dry  WY accreti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%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are Events (10% SC/Warm met/ Dry WY accreti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instream flow schedules (associated with Wet, Normal, Dry and Critical Dry water year types)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Instream Flow Schedule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months in the summer (June-Septemb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4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4 =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Times New Roman"/>
              </a:rPr>
              <a:t>Modeled Operation Scenarios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line – Existing Prattville/Existing Butt Valley Reservoir (BV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3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ified Prattville Intak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Existing BVR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=curtain no. 4 in IIHR stud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s Scenario 2 with Levees removed/Existing BV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s Scenario 3 with blending of Canyon Dam releas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Existing BV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almanor%20map-230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6400800" cy="58561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 flipH="1" flipV="1">
            <a:off x="3962160" y="3733920"/>
            <a:ext cx="759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33920" y="4114800"/>
            <a:ext cx="990360" cy="641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FFR above Carib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17:36:22Z</dcterms:created>
  <dc:creator>LKE1</dc:creator>
  <dc:description/>
  <dc:language>en-US</dc:language>
  <cp:lastModifiedBy>Scott Tu</cp:lastModifiedBy>
  <dcterms:modified xsi:type="dcterms:W3CDTF">2004-01-22T22:42:26Z</dcterms:modified>
  <cp:revision>105</cp:revision>
  <dc:subject/>
  <dc:title>PowerPoint Presentation</dc:title>
</cp:coreProperties>
</file>